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CB8F-505E-49A4-A25D-FED47A8EF9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231D-33F7-47B6-B284-1028029368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E6E-73AD-470B-A64D-74BCC208CE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C137-7F2E-4951-9030-71DB286509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565-36B1-4CAB-986C-6BEB852111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E2F3-39FF-41BD-8182-C5898B0310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9BA7-2C5C-4F31-9459-8A80D26EDF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57D7-1F16-4E0F-A79F-678E421D3E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A757-0033-4E6F-A975-08A3326291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FE94-2654-4FFE-894D-551A0503A8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C5C-CD74-4FC2-929B-125BF5D2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F0F-C44F-4791-9042-A0EDA53B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59B-54CF-44E0-8446-F89F84D1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97E-A69F-4D92-B90E-146ADD82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DE5-5F81-416E-BAF1-C340F29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A98-2758-4079-BAE2-BD2F2CAC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467-6099-444A-BDB8-EABE442C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79E-6B8B-4D56-8C53-7378B95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C0E-7042-473C-9265-29750B7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A52-453C-4FCA-9670-41BEB18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1E3-4D0F-4C34-B2A3-1542BE9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E80-B7D2-4D63-AA32-386836E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A148-4799-4C06-96CA-88CEE08DB16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lassond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lassond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1356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Groupe d’entraide aux personnes francophones LGBTQI nouvellement arrivées au Canada de FrancoQu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4572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Me Julie Lassonde, animatrice bénévole du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jlassonde.co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7 octobre 2012: Réflexion stratégique de FrancoQu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s-groupe sur les minorités dans la minorité et sur la justi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 réunions e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aluation du groupe effectuée en aoû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nctionnement du gr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id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ou 6 réunions en personne par 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boursement de tokens, nourriture et boissons quand c’es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nimatrice béné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u une membre bénévole du conseil d’administratio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ersonnes participantes s’entraident entre les ré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participe au grou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e 4 et 9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onnes LGBTQI et all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’obligation de s’identifier sur le plan de l’orientation sex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mmes et ho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jorité de personnes africaines nouvellement arrivées au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m’a aidée à m’exprimer, à être plus à l’aise. Ça a soulevé un poids que je portais. Ça m’a donné un soutien moral et psychologiqu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Ça m’a donné du courage. J’ai vécu beaucoup d’émotions. J’en ai appris sur différents pays. Je me sens maintenant à l’aise de parler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’ai senti une différence dans mon bien-être avant d’avoir participé au groupe et aprè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Nous sommes là pour les autres et pour soi, peu importe si les nouvelles sont bonnes ou mauvaises sur le plan de l’immigration et du statut de personne réfugié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accepte toutes les couleur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e suis en situation de stress constant et ça me soulage à chaque fois que je viens à une réunion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a un impact limité sur les démarches juridiques de ses me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ttre de soutie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émoignage de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age d’expériences et apprentissage à travers les 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fournir de conseils jurid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donner d’aide finan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gmenter le nombre de personnes participantes sans perdre la qualité de l’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rganiser d’autr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vrir un café LGBT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echerche de financement de FQ auprès du ministère des affaires civiques et de l’immigration de l’Ontario en 2013. Y aura-t-il des sui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 Lass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ocate, chercheure &amp; traduc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réal 514-839-8727 / Toronto 416-837-8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@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oQu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ww.francoqueer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7:22:55Z</dcterms:created>
  <dc:creator>Julie Lassonde</dc:creator>
  <dc:description/>
  <dc:language>en-US</dc:language>
  <cp:lastModifiedBy>ltshiswaka</cp:lastModifiedBy>
  <cp:lastPrinted>2013-10-03T23:44:44Z</cp:lastPrinted>
  <dcterms:modified xsi:type="dcterms:W3CDTF">2013-11-12T18:55:13Z</dcterms:modified>
  <cp:revision>530</cp:revision>
  <dc:subject/>
  <dc:title>Diapositive 1</dc:title>
</cp:coreProperties>
</file>